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F4D-0781-4C20-8106-63C4872D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9B6-6AFF-4A86-BE10-125D16C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EE0-3337-4561-87A3-EBE17C0A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A51-3CB5-4171-AE13-1C8485E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911-31F8-4E2A-A9BA-AD81E3F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683-AB70-4965-916A-532750D2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100-C663-4CA5-8BE5-FB6F38EF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30B-80E0-4FA8-B01F-759B8B2E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CE9-E6EB-4389-B900-1D15ECA8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F85-4CD6-467F-B122-526FD0A3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4E29-E26E-48A0-A31E-73FF5962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0E3-CF38-4780-9229-0B6A79E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FD54-4631-49C6-948C-916295B64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ornhill 3"/>
          <p:cNvPicPr/>
          <p:nvPr/>
        </p:nvPicPr>
        <p:blipFill>
          <a:blip r:embed="rId1"/>
          <a:stretch/>
        </p:blipFill>
        <p:spPr>
          <a:xfrm>
            <a:off x="1928880" y="404640"/>
            <a:ext cx="1096920" cy="113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Wanlock1"/>
          <p:cNvPicPr/>
          <p:nvPr/>
        </p:nvPicPr>
        <p:blipFill>
          <a:blip r:embed="rId2"/>
          <a:stretch/>
        </p:blipFill>
        <p:spPr>
          <a:xfrm>
            <a:off x="3657600" y="333360"/>
            <a:ext cx="895320" cy="1216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umfrieshire Ex Pres"/>
          <p:cNvPicPr/>
          <p:nvPr/>
        </p:nvPicPr>
        <p:blipFill>
          <a:blip r:embed="rId3"/>
          <a:stretch/>
        </p:blipFill>
        <p:spPr>
          <a:xfrm>
            <a:off x="5024520" y="476280"/>
            <a:ext cx="1042920" cy="996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0" y="1500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HILL                                       THORNHILL                              WANLOCK PUBLIC           DUMFRIES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394488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Thornhill 1"/>
          <p:cNvPicPr/>
          <p:nvPr/>
        </p:nvPicPr>
        <p:blipFill>
          <a:blip r:embed="rId4"/>
          <a:stretch/>
        </p:blipFill>
        <p:spPr>
          <a:xfrm>
            <a:off x="344520" y="333360"/>
            <a:ext cx="969840" cy="120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3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15:15:54Z</dcterms:created>
  <dc:creator>JY</dc:creator>
  <dc:description/>
  <dc:language>en-US</dc:language>
  <cp:lastModifiedBy>John</cp:lastModifiedBy>
  <dcterms:modified xsi:type="dcterms:W3CDTF">2011-11-29T19:17:16Z</dcterms:modified>
  <cp:revision>10</cp:revision>
  <dc:subject/>
  <dc:title>Slide 1</dc:title>
</cp:coreProperties>
</file>